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CB9-B4CF-48C7-B4A7-990B2781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2A1-9B05-48B7-B2FF-2B63316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8E1-ECA8-46D6-BB65-025E716F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E25-9921-40DA-97C3-0648667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625-FFD1-4D61-B477-5A82E56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F08-5B94-477D-BB88-EEADB9D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CAC-92EE-4032-B35A-201F6884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67C-CD29-46F3-838F-A49D821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67A-5A72-4336-86D1-9633276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69F-160F-4585-9026-587E2AC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5E5-1D0C-4E47-9966-694876E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BFF-BA35-41BC-B676-4584F39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F84D-9F67-4F92-BB62-6EBE3958CF3E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c00000"/>
                </a:solidFill>
                <a:latin typeface="Calibri"/>
              </a:rPr>
              <a:t>El vuelo de las </a:t>
            </a:r>
            <a:br>
              <a:rPr sz="6600"/>
            </a:br>
            <a:r>
              <a:rPr b="0" lang="es-ES" sz="6600" spc="-1" strike="noStrike">
                <a:solidFill>
                  <a:srgbClr val="c00000"/>
                </a:solidFill>
                <a:latin typeface="Calibri"/>
              </a:rPr>
              <a:t>dos hojitas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escanear0001.jpg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escanear0003.jpg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escanear0004.jp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escanear0005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escanear0006.jpg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2:47:22Z</dcterms:created>
  <dc:creator>Héctor</dc:creator>
  <dc:description/>
  <dc:language>en-US</dc:language>
  <cp:lastModifiedBy>Héctor</cp:lastModifiedBy>
  <dcterms:modified xsi:type="dcterms:W3CDTF">2011-12-06T22:53:09Z</dcterms:modified>
  <cp:revision>1</cp:revision>
  <dc:subject/>
  <dc:title>El vuelo de las  dos hojitas</dc:title>
</cp:coreProperties>
</file>